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A26-1433-4503-817D-0A3CEE4D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364-D09D-454A-9105-EEF5FC29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106-B156-444F-A393-EBCA0FB1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B97-7ECA-4334-9F44-2389D3DD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9F9-B3A4-4912-ADE3-62608692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AED-76F7-472D-9069-7521E3BE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90A-7B7F-424B-BF2F-5DD63B35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7F4-B6E9-45B3-842D-C8752B34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911-9577-4CE9-8E15-71609599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BC0-A570-4C76-917D-EFFEBDC2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7EC-3C67-4E90-8EB0-F982762F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6E0-BCA3-4C93-8E86-BE23F452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70FD-DE71-4A55-A41B-8DD2CC1EA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15228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s Comid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: Nicholas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743200" y="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s Comida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5791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: Nicholas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19200" cy="188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29400" y="2514600"/>
            <a:ext cx="2314440" cy="1971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35268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33920" y="4419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e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419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nqueq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90920" y="304920"/>
            <a:ext cx="403848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Desayun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666880" y="228600"/>
            <a:ext cx="358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 Almuerz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666880" cy="164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867280" y="2895480"/>
            <a:ext cx="2648160" cy="162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4724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pita En Una Gal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eca de Cacahuet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4648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315200" y="4495680"/>
            <a:ext cx="1469880" cy="1886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864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152280"/>
            <a:ext cx="29196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a Ce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5562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 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3848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Zanah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24480" y="32004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53080" y="57913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Judias Ve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2895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o de Sa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762280" cy="1839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 rot="5400000">
            <a:off x="2790000" y="1400040"/>
            <a:ext cx="3429000" cy="93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El Post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743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867280" y="685800"/>
            <a:ext cx="2438640" cy="2394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19920" y="3276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ta De F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6248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ido De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334120" y="3886200"/>
            <a:ext cx="2800080" cy="2193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5880" y="6095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s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6:38Z</dcterms:created>
  <dc:creator>nickgrace</dc:creator>
  <dc:description/>
  <dc:language>en-US</dc:language>
  <cp:lastModifiedBy>nickgrace</cp:lastModifiedBy>
  <dcterms:modified xsi:type="dcterms:W3CDTF">2012-04-05T17:13:10Z</dcterms:modified>
  <cp:revision>8</cp:revision>
  <dc:subject/>
  <dc:title>Slide 1</dc:title>
</cp:coreProperties>
</file>